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F53A-7749-45B5-AF25-428F410A2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67A6-A3D1-49BB-8277-3CB488D9C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129E-A017-44E2-923E-0B7EA21B4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0A11-742A-46D4-8BBC-AB6B7C4FE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44B3-A213-4E44-BE7A-B79DD8D5E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F22D-A57B-439C-8585-AA5C34BEF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F3D8-8982-46D8-BFDF-1A470CE67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1C6F-A282-422E-838B-DAAFB4D17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4C63-A19F-47EF-B28B-2AB6F4680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C7AA-3CF9-4F17-B83C-B8BBE1F2B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5C353-6ED2-4AED-9F9F-29C58F265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58AD-DEEE-4068-A66B-FDF8F2313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06891-55E2-4304-A0E0-EF6364DF31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114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quistadors and pre Columbian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 Kellie Trav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ley DiLore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tandard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400760"/>
            <a:ext cx="9144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.2 Identify the three major pre-Columbian civilizations that existed in Central and South America (Maya, Aztec, and Inca) and their locations. Describe their political structures, religious practices, and use of slav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.4 Explain why the Aztec and Inca civilizations declined in the 16th centur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. the encounters between Cortez and Montezu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. the encounters between Pizarro and the In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. the goals of the Spanish conquistad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. the effects of European diseases, particularly smallpox, throughout the Western hemisphere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5943600"/>
            <a:ext cx="190512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zte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lived in Tenochtilan which is part of Mex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ztecs were Polytheisti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used other tribes as slaves and human sacrif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ztecs got brought down by smallpo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486400" y="2286000"/>
            <a:ext cx="3657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bergriscaye.co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562720" y="533520"/>
            <a:ext cx="3124080" cy="16477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334120" y="3200400"/>
            <a:ext cx="3504960" cy="28814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362320" y="5866560"/>
            <a:ext cx="177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ku.edu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3962520" y="5181480"/>
            <a:ext cx="12952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219320" y="5943600"/>
            <a:ext cx="3657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y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region did not contain as much gold as they want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were Polytheisti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were slaves who could sometimes gain there freedom bac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791320" y="228600"/>
            <a:ext cx="3089160" cy="26668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172200" y="3047400"/>
            <a:ext cx="24382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es.wikipedia.org</a:t>
            </a:r>
            <a:r>
              <a:rPr b="0" lang="en-US" sz="21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562720" y="3505320"/>
            <a:ext cx="2871720" cy="33526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295280" y="5942520"/>
            <a:ext cx="357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inamericanstudies.org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4876920" y="5791320"/>
            <a:ext cx="5331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57200" y="6019920"/>
            <a:ext cx="472428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Incas were Polytheistic which means they believed in many go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was no written language, but they had a spoken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practice animal sacrifice, and on special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ccasions there was human sacrifice (childre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562720" y="838080"/>
            <a:ext cx="2666880" cy="18558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5567040" y="3047040"/>
            <a:ext cx="28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wandknow.com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6095880" y="3581280"/>
            <a:ext cx="2479680" cy="32767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80880" y="6018840"/>
            <a:ext cx="46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-inca-block-d.wikispaces.com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5181480" y="571500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te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took over the Aztecs by for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traveled with 500 men and 16 horses to conquer the Aztec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were other native Indian groups that help the Spanish  conquer the Aztec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952880" y="1219320"/>
            <a:ext cx="3337200" cy="38098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486760" y="5028480"/>
            <a:ext cx="202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tc.usf.edu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zarr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traveled with 180 men and 27 horses into Peru to conquer the Inc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zarro demanded that a room should be filled with gold and silver and Atahualpa would return to the Inc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zarro tricked the Inc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5562720" y="1371600"/>
            <a:ext cx="2520720" cy="32767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5487120" y="5150520"/>
            <a:ext cx="317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.wikipedia.org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800"/>
            </a:gs>
            <a:gs pos="100000">
              <a:srgbClr val="825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380880" y="380520"/>
            <a:ext cx="822960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did the Spanish explorers and conquistadors change Central and South America forever? (Where do we see the lasting effect of these conquistadors even in 2011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conquistadors did not take over South America and change South America forever, a lot of people would not be Christian or speak their own langu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38080" y="4038480"/>
            <a:ext cx="7086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5T15:46:41Z</dcterms:created>
  <dc:creator>jklib</dc:creator>
  <dc:description/>
  <dc:language>en-US</dc:language>
  <cp:lastModifiedBy>jklib</cp:lastModifiedBy>
  <dcterms:modified xsi:type="dcterms:W3CDTF">2011-11-30T16:27:56Z</dcterms:modified>
  <cp:revision>5</cp:revision>
  <dc:subject/>
  <dc:title>Slide 1</dc:title>
</cp:coreProperties>
</file>